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241A-4F7C-4049-B7EE-27E1F773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999-975A-49B1-B60C-5FCB566A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2C9D-FB2A-4FCC-A4F5-3CE154BC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26B9-738B-42F8-AD91-B0B9534A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EC71-9AC6-4A79-A27F-1D20A2B9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F1F2-970E-4DE6-959F-E0F2B550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D67A-D0B7-4683-BE53-0D14A1A0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92FE-92DB-437A-B14F-0DBEDEC2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9C2-D529-4A2A-ABEB-2C3A5D54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3FE-3C29-4298-992F-F97CA4BC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C149-A526-4DB8-9F91-C85F2916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32BA-364F-45D8-99E6-749FADE9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12D1-826C-4275-971D-DA876CF5D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89120"/>
            <a:ext cx="700884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35080" y="800280"/>
            <a:ext cx="687384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738360"/>
            <a:ext cx="7008840" cy="53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12760" y="817560"/>
            <a:ext cx="69184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89000" y="793800"/>
            <a:ext cx="69645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817560"/>
            <a:ext cx="700884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2:04:28Z</dcterms:created>
  <dc:creator>bealst</dc:creator>
  <dc:description/>
  <dc:language>en-US</dc:language>
  <cp:lastModifiedBy>jayoig</cp:lastModifiedBy>
  <dcterms:modified xsi:type="dcterms:W3CDTF">2011-05-06T17:55:58Z</dcterms:modified>
  <cp:revision>1</cp:revision>
  <dc:subject/>
  <dc:title>Slide 1</dc:title>
</cp:coreProperties>
</file>